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32A-2B40-4BBA-93F4-BF2ACA6C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99B-6D24-46CF-8CCA-9A5DE0C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B3A-76CA-4792-BD40-17135492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6BE-7E7C-4A58-9C3F-8031F99A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7533-567D-4692-9C1B-A57B2303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810B-1142-45F4-B87F-CA9AF266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116C-AA6E-434D-A632-B6CF26F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350A-E55D-4FFF-9A56-24BC9A48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A3E1-1E07-44AA-94EF-1D2E116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782-866E-4CA8-9A69-45AD409F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B697-3752-43E7-9D51-9EEFBF4B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7D4-31BF-4F19-9CE9-D0D19B3D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7749-C18E-4310-A04F-AA2696D0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841-C641-48D5-92E6-379A911C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CDD-C8D8-443D-960C-EB8E10B0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72A-06F7-4C75-AD48-020CB20F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894E-7CBE-47B0-B3E7-D1E2F12D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29F-6D49-48BE-BAB3-C80A1201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95C-03B8-4943-A454-985D1463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F88-2E40-411C-ABD1-6AB18FF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755-721A-432E-906F-0D5FC22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9F7-2130-483D-BA60-71238F9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0F3-920A-46D5-8463-85E1EC0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8F9-FAEB-40D4-93AF-5A41CCF9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23E-3E53-4891-B157-3DA5DAEB0A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4DD3-BA55-4ABA-8C3D-D8C94AFD7C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__ Clase 6NH(601) 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6 de febrero del 2013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ito # 34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practicamos los verbos de cambio rad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 los siguientes verbos en forma de “BOT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orzar (to lun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olver (to retu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ntrar (to fi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ar (to rememb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ñar (to dre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O: Copia y comple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U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U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verb J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play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nges to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endings are the same as the regular –AR verbs. TRY I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3429000"/>
          <a:ext cx="8915400" cy="1828800"/>
        </p:xfrm>
        <a:graphic>
          <a:graphicData uri="http://schemas.openxmlformats.org/drawingml/2006/table">
            <a:tbl>
              <a:tblPr/>
              <a:tblGrid>
                <a:gridCol w="2674800"/>
                <a:gridCol w="62406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</a:rPr>
                        <a:t>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9"/>
          <p:cNvSpPr/>
          <p:nvPr/>
        </p:nvSpPr>
        <p:spPr>
          <a:xfrm>
            <a:off x="30481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048120" y="4343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048120" y="4800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7010280" y="38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7010280" y="4281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0" i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7086600" y="47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46483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37"/>
          <p:cNvSpPr/>
          <p:nvPr/>
        </p:nvSpPr>
        <p:spPr>
          <a:xfrm>
            <a:off x="701028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43"/>
          <p:cNvSpPr/>
          <p:nvPr/>
        </p:nvSpPr>
        <p:spPr>
          <a:xfrm>
            <a:off x="228600" y="3886200"/>
            <a:ext cx="441972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44"/>
          <p:cNvSpPr/>
          <p:nvPr/>
        </p:nvSpPr>
        <p:spPr>
          <a:xfrm flipV="1">
            <a:off x="4648320" y="3886200"/>
            <a:ext cx="0" cy="99072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45"/>
          <p:cNvSpPr/>
          <p:nvPr/>
        </p:nvSpPr>
        <p:spPr>
          <a:xfrm>
            <a:off x="4648320" y="4800600"/>
            <a:ext cx="4495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6"/>
          <p:cNvSpPr/>
          <p:nvPr/>
        </p:nvSpPr>
        <p:spPr>
          <a:xfrm flipV="1">
            <a:off x="9067680" y="480060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47"/>
          <p:cNvSpPr/>
          <p:nvPr/>
        </p:nvSpPr>
        <p:spPr>
          <a:xfrm>
            <a:off x="228600" y="5257800"/>
            <a:ext cx="88390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48"/>
          <p:cNvSpPr/>
          <p:nvPr/>
        </p:nvSpPr>
        <p:spPr>
          <a:xfrm flipV="1">
            <a:off x="228600" y="3886200"/>
            <a:ext cx="0" cy="1371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52280" y="5334120"/>
            <a:ext cx="472464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3520" y="3657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3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57200" y="5070600"/>
            <a:ext cx="82296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BOOK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ompleta p.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ompleta p.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8:05:49Z</dcterms:created>
  <dc:creator>Helen Zumaeta</dc:creator>
  <dc:description/>
  <dc:language>en-US</dc:language>
  <cp:lastModifiedBy>Helen Zumaeta</cp:lastModifiedBy>
  <dcterms:modified xsi:type="dcterms:W3CDTF">2013-02-06T19:24:44Z</dcterms:modified>
  <cp:revision>7</cp:revision>
  <dc:subject/>
  <dc:title>Me llamo ___________ Clase 6NH La fecha es el 11 de junio del 2012</dc:title>
</cp:coreProperties>
</file>